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819-C1B6-41F1-B6EC-FB8B9571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5E9-7036-4E75-90D2-6E630D08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7E8-6A11-4E92-9130-43050EAD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3B2-CAB3-4BA7-8585-727B1AD0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8D3C-A39E-440C-B181-0CF0BC97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B82D-065E-4979-A0C5-83469F03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755D-3CF9-40D1-A22A-D89DF653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3D17-A86C-4100-BBF7-7DC9C246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CDA5-F5FD-4A45-AF02-94D344D7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88E0-7AD6-40F0-9C5E-8E2BD69F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EDDB-6E62-48E6-BAF3-D33FE24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E69-EDAD-42FB-9D46-4E4B2ABD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9154-DDA7-42E6-9BCD-73D55F12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3548-1E64-4243-89B7-AEB80447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D192-6C17-4548-987B-220EBDDF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CCF5-2915-43AC-AD81-F7C61653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E93C-BB69-4F5C-BDB9-35BFE520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96ABF-960E-447E-86D7-EB8FB9AD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C75BB-E86D-4DA3-B9E6-E581D364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17DEF-C985-4E55-A1F8-AF87D10F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8FB92-CFA2-4A9A-BF2D-8148195B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BB9FC-CD9C-4FC2-8816-EF5E2B7B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4C2-F5DE-48E4-A364-D36A6BCD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C491B3-AB52-4AE0-B653-A7C9E03B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D33F2-B5B9-4881-A7A0-FD8C76B9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57692-A74F-49F8-A249-FBEDF8B3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BD440-2C14-498D-BB41-36AAB4E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59A4E-5AF2-4D01-989B-78E2BC78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A64F5-A6B5-4D99-9BA8-C2B57FC9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8B5FA-D552-4792-B5C0-BEFAAAF8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73E-5BDE-4054-B52A-2C07AA09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011-86BB-4D4C-B5B8-B5019E09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77D-DF8A-431E-B5B4-FEE790C3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DDD-A13E-42AE-A0DA-F9BFE9C4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348-31A6-44BB-A771-B5EFF9A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D9B-6F55-4521-AE63-CCFED9BD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57CC-E277-45DA-8C9B-4DC94878D4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C1A8-F2C2-4736-B472-59296AB6EB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3ACB-28E9-4244-86A6-B1E7F17B4A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1B6-7DE3-4528-AA4D-F25570B3C1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EF9B-6806-4C73-92A8-C3D41C3234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E35-0FB4-448C-9A13-7295FB6D23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metodika.reformy-msmt.c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7280" y="836280"/>
            <a:ext cx="4897440" cy="41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PN Metodik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v ke konci řešení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Jitka Moravcov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1131840" y="6300720"/>
            <a:ext cx="3786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Candara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15416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V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26.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201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4834-C783-45F4-81EF-FB535631CC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5"/>
          <p:cNvSpPr/>
          <p:nvPr/>
        </p:nvSpPr>
        <p:spPr>
          <a:xfrm>
            <a:off x="620280" y="1622520"/>
            <a:ext cx="6630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1 – 4 užitné vz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č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káv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bobu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vá briketa na bázi zbytků z gastronom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2 – 23 užitných vzo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pseudo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ovocn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obilo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8187-4B35-4E0C-A0DA-21FBE26BB1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5"/>
          <p:cNvSpPr/>
          <p:nvPr/>
        </p:nvSpPr>
        <p:spPr>
          <a:xfrm>
            <a:off x="625680" y="1631880"/>
            <a:ext cx="5706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ork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listů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peleta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Calibri"/>
              </a:rPr>
              <a:t>2013 – 6 užitných vzo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kej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čištění a zpracování obilo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lisování olejnatých 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v textilním průmys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mlýnských a pekárenských výrob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okru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ovéPole 4"/>
          <p:cNvSpPr/>
          <p:nvPr/>
        </p:nvSpPr>
        <p:spPr>
          <a:xfrm>
            <a:off x="4441320" y="3141720"/>
            <a:ext cx="365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1, 4 užitné v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2, 32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3, 6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947B-3AB5-4DB6-88B6-A7E0AF77C9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90520" y="155736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sledkem našich minulých i stávající Metodiky je obecné povědomí, že každý výsledek musí být oceněn institucionální podporou (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aždá VO má vlastně na IP „nárok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odnocení bylo pouhým přepočtem bodů na pení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výhoda metrik: rezignace na hodnocení kv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577800" y="3673440"/>
            <a:ext cx="8077320" cy="1771560"/>
            <a:chOff x="577800" y="3673440"/>
            <a:chExt cx="8077320" cy="1771560"/>
          </a:xfrm>
        </p:grpSpPr>
        <p:pic>
          <p:nvPicPr>
            <p:cNvPr id="184" name="Picture 6" descr=""/>
            <p:cNvPicPr/>
            <p:nvPr/>
          </p:nvPicPr>
          <p:blipFill>
            <a:blip r:embed="rId1"/>
            <a:stretch/>
          </p:blipFill>
          <p:spPr>
            <a:xfrm>
              <a:off x="577800" y="3682800"/>
              <a:ext cx="120024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7" descr=""/>
            <p:cNvPicPr/>
            <p:nvPr/>
          </p:nvPicPr>
          <p:blipFill>
            <a:blip r:embed="rId2"/>
            <a:stretch/>
          </p:blipFill>
          <p:spPr>
            <a:xfrm>
              <a:off x="1805400" y="3821040"/>
              <a:ext cx="123840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3"/>
            <a:stretch/>
          </p:blipFill>
          <p:spPr>
            <a:xfrm>
              <a:off x="3087000" y="3716280"/>
              <a:ext cx="12286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"/>
            <p:cNvPicPr/>
            <p:nvPr/>
          </p:nvPicPr>
          <p:blipFill>
            <a:blip r:embed="rId4"/>
            <a:stretch/>
          </p:blipFill>
          <p:spPr>
            <a:xfrm>
              <a:off x="4364280" y="3673440"/>
              <a:ext cx="12096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"/>
            <p:cNvPicPr/>
            <p:nvPr/>
          </p:nvPicPr>
          <p:blipFill>
            <a:blip r:embed="rId5"/>
            <a:stretch/>
          </p:blipFill>
          <p:spPr>
            <a:xfrm>
              <a:off x="5637240" y="3692160"/>
              <a:ext cx="101916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6"/>
            <a:stretch/>
          </p:blipFill>
          <p:spPr>
            <a:xfrm>
              <a:off x="6703920" y="3782880"/>
              <a:ext cx="85716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2" descr=""/>
            <p:cNvPicPr/>
            <p:nvPr/>
          </p:nvPicPr>
          <p:blipFill>
            <a:blip r:embed="rId7"/>
            <a:stretch/>
          </p:blipFill>
          <p:spPr>
            <a:xfrm>
              <a:off x="7607520" y="3720960"/>
              <a:ext cx="104760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Rectangle 18"/>
          <p:cNvSpPr/>
          <p:nvPr/>
        </p:nvSpPr>
        <p:spPr>
          <a:xfrm>
            <a:off x="174600" y="54388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7 užitných vzorů uplatněných v roce 2010 vyneslo v roc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cs-CZ" sz="2200" spc="-1" strike="noStrike">
                <a:solidFill>
                  <a:srgbClr val="ff0000"/>
                </a:solidFill>
                <a:latin typeface="Calibri"/>
                <a:ea typeface="Arial"/>
              </a:rPr>
              <a:t>IP 400 000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Variabilní stropní svít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Metodika 2013 už užitné vzory nezahrn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032-EF56-4218-8EBB-112A547EFB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322200" y="1631880"/>
            <a:ext cx="849780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íklad Portugalska, strategická restrukturalizace VO v roce 2013 (peer-review hodno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o 322 VO (30 880 výzkumníků) za období 2008-2012 a strategii na 2015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7 hlavních pan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fáze (vyřazovací): dobrý, průměrný, špat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78 VO (55 %) do fáze 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81 VO (25 %) nepostoupilo, jen 80 %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62 VO (20 %), nedostalo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fáze: výjimečný, excelentní, velmi dobrý (strategické financ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í v 5 dimenzích: Productivity,  Sci and technol merit, Relevance, Feasibility of the work plan, Impact of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ngličtina, jen název a abstrakt v portugalšt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O si samy navrhovaly výši institucionální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5040-1139-4E3D-B9A3-C060B770E4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081520" y="112536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zkorumpova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07800" y="1622520"/>
            <a:ext cx="849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er-review je subjektivní 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hraniční hodnotitelé bez vazby n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veřejnění složení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mbinace: bibliometrie + indikátory + posouzení pan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asná pravidla pro práci oborových panelů (hodnotí) a hlavních panelů (dohlíží, koncipují doporu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čast českých zástupců v hlavních panelech a konzultantů pro v oborový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ŠMT má dobrou zkušenost s peer-review hodnocením výzkumných infra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V ČR má zkušenost s peer-review hodnoc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KHV a RVVI z Metodiky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z pilotních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911A-C1F1-44D1-A586-C0E6928D10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538200" y="1341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Zkušenosti z veřejného projedná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seznámení se s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odůvodněnost připomí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nad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akceptování jiného názo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2929-D804-4465-9739-8A232D221F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 (?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07800" y="1414440"/>
            <a:ext cx="84981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ational Evaluation of Research Organisations (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odnocení 2016 podle (upravené?) Metodik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gislativní změny, 2016 – 2017 (pokud budou nut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, 2016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alizace NERO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stitucionální financování, 2019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le RVVI a K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litické rozhodnu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  <a:ea typeface="Arial"/>
              </a:rPr>
              <a:t>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10BF-DDC2-431C-A1C6-D8A3EB04A4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07800" y="12682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arm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41520" y="184464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0.2.2015 pracovní seminář s vybranými 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n-line administrativní a podpůrný systém APS, help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eznamu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výstupů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dělení výzkumníků do RU, přihlášení se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brat excelentní výsledky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sebehodnotící zprávu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30. dub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ijmout expertní panel pro prezenční návštěvu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konce čer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komentář k hodnotící zprávě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konec zá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pro číslo snímk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DAA4-9C37-45B9-AAFE-E9F90030C9C1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6"/>
          <p:cNvSpPr/>
          <p:nvPr/>
        </p:nvSpPr>
        <p:spPr>
          <a:xfrm>
            <a:off x="1835280" y="443700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ez kvalitního hodnocení nebude kvalitní a efektivní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Obsa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C8E5-BAA0-4EEB-A026-92FCE2D6E6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4280" y="1646280"/>
            <a:ext cx="8496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ruh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jčastější námi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sta k NERO (National Evaluation of Research Organis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eřejná zakázka - Technopol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4BAE-38D1-4A89-8B6E-01373B9FDB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20560" y="1268280"/>
            <a:ext cx="80679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1.5.2015 skon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lnění zakázky bylo v souladu se smlou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chny dílčí a závěrečná zpráva byly MŠMT přij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. DZ – Hodnocení výzkumných 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2. DZ – Institucionální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. DZ – Mal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věrečná zpráva: Summary Report + pří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moc při pilotním ověření realizovaném tý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zultace road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nání s nám. Marksem, seminář pro ČKR, vystoupení na RV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A946-A3BA-48A6-A19D-D85C824FCD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0560" y="1585800"/>
            <a:ext cx="80679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n-line systém (ČVUT): bibliometrické zprávy pro VJ, sebeevaluační zprávy, vyžádané informace k 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sou obsazeny pozice v hlavních a hodnotící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 panelů je na webových stránká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ční schůzky 14.5.2015 (Eng&amp;Tech), 20.5.2015 (Humanities), 21.5.2015 (NatSci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sazení pozic hodnotitelů pro vybrané vý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6DA1-6617-499F-8DB7-C4C78FB632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brané hodnocen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06320" y="155736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é technologie Univerzity Pard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technologic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technologie ochrany prostředí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potravinářské a biochemické technologie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inženýrs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á VUT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eyrovského ústav fyzikální chemie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chemických procesů AVČR,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ýzkumný ústav anorganické chemie Ústí n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Centrum organické chemie s.r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71400" y="4653000"/>
            <a:ext cx="55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istorický ústav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pro soudobé dějiny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Jihočeské univerzity České Budějo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Univerzity Pard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technické muz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arc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5"/>
          <p:cNvSpPr/>
          <p:nvPr/>
        </p:nvSpPr>
        <p:spPr>
          <a:xfrm>
            <a:off x="755640" y="1754280"/>
            <a:ext cx="488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5577-0482-4F79-924A-0874872EDA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20560" y="1197000"/>
            <a:ext cx="80679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sedání hlavních a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rpen - září, zprávy oborových a hlavní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ří – zpětná vazba hodnocený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628640"/>
          <a:ext cx="7128000" cy="38401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1319400"/>
              </a:tblGrid>
              <a:tr h="6102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Natural Sci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 Chem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.6. - 3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Biolog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. - 1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680"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Engineering and Technolog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 Chem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6. - 2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aterials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Environmental Engineer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 Industrial Biotechn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Human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 History and Arche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. - 9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 Languages and Lit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 Philosophy, Ethics and Relig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28A6-214D-457B-88D6-A9511B3609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8040" y="1666800"/>
            <a:ext cx="80676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lastimil Růžička, garant K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orel, prof. Mayer, ing. Kopř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ajemníci panelů (stud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nažerka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konom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valitní administrativní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CFFB-CEB5-4D51-AFAE-0A64F6ABFF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07800" y="1630440"/>
            <a:ext cx="849816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max 1% z rozpočtu na institucionální podporu na přímé i nepřímé nákla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na současného hodnocení podle Metodiky není zná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známo, kolik prostředků se vynakládá </a:t>
            </a:r>
            <a:r>
              <a:rPr b="1" lang="cs-CZ" sz="2600" spc="-1" strike="noStrike">
                <a:solidFill>
                  <a:srgbClr val="ff0000"/>
                </a:solidFill>
                <a:latin typeface="Calibri"/>
              </a:rPr>
              <a:t>neefektiv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odhad nepřímých nákladů (VB 83 %, Itálie 84 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institucionální podpora 2015: 13 264 688 792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 toho: 355 848 945 (TA ČR, GA ČR, Úřad vlád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bývá: 12 908 819 847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1% z rozpočtu na institucionální podporu je cca 129 mil. Kč/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94A0-7F5A-40DD-B20E-F9748C343E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4920" y="1816200"/>
            <a:ext cx="90360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lkové náklady závisí na cíli hodnocení a jeho detail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Obecné pravidlo: čím detailnější hodnocení, tím dražší, ale tím vyšší poměr výkon/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Přímé náklady závis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počtu jednání panelů, na kvalitě administrativní podpory, komunikaci přes internet (skype, telekonference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zavedení návštěv panelů na mís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částí projektu je vypracování Studie proveditelnosti s posouzením různých vari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Detailnost hodnocení je téma pro implementac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Moravcová Jitka</cp:lastModifiedBy>
  <dcterms:modified xsi:type="dcterms:W3CDTF">2015-06-26T06:27:08Z</dcterms:modified>
  <cp:revision>314</cp:revision>
  <dc:subject/>
  <dc:title>nadpis</dc:title>
</cp:coreProperties>
</file>